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1BF-1FAD-4635-BFEA-EE558603E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A4F-8097-4610-9E24-FD940F83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BB8-44F4-42E3-8A0C-9BFC997B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78D-2139-4612-9E15-DB0D15D4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5EF9-AAAD-48EB-8174-0F583620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DA9A-B77A-4ADD-9814-78F357F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38F-0574-4915-93D6-FD5F5D17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93EE-6A6A-43F4-BAB9-FB8FA286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7AF6-4549-40E1-A389-D8067AF2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640B-9F55-4F82-9FD8-0C7CA6D5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D5C4-AFD0-42C0-8C61-EB18AC39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DC8-B532-4ABF-B7C9-84994F8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37B-6B57-4317-BF10-9226BC8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9D7-6F0E-4C72-99D2-BA0E6DAA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6916-9BB2-4A1E-B040-90F8FF1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54DD-E67B-4B43-8464-900CA4C3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9D1-E50A-494F-B53C-B6EC94CD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DD6-2B4B-4ADF-9829-AB4344D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4B1-D533-483F-B8CC-1C13C24A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BDF-D1DA-435C-8940-A835C44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C2F-0498-4025-91C2-1B326E27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BE7-A4BB-4892-A4B5-B7AB415B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590-E998-4693-A11B-0BCEACBC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056-21FA-4F23-9C99-CE96E1A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E8F0-E2CB-4234-80F0-8E1E9526CCF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897-D27F-4B7B-99C6-76A2F45F7B9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terite verbs ending 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car, -gar, and -z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regular yo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l piano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tarde a clas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810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cuenta en el restaurant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2438280" y="24382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a tarde agradable con mi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sa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sac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sac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sac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05120" y="213372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escribir una composición para la clase de inglé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198108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mpe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905120" y="220968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basura y limpié la cas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22096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981080" y="2743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rop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l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casa con mi famili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981080" y="19810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la guitarra y canté unas cancione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2438280" y="18288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leg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lle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g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g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lleg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lleg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lleg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 mi abuel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362320" y="25146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br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981080" y="213372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 _________ una lección difícil a mi hermanita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32767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l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ajedrez con Jorg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251460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libros en la biblioteca.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2438280" y="20574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río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25909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s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572000" y="304920"/>
            <a:ext cx="37339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z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676520" y="23623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o goc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71600" y="3049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car </a:t>
            </a:r>
            <a:r>
              <a:rPr b="0" lang="en-US" sz="44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 qu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676520" y="38098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ú goza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67652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a goz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5257800" y="243828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5181480" y="3809880"/>
            <a:ext cx="289584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5257800" y="5334120"/>
            <a:ext cx="289548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os goza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981080" y="220968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en el bosque con mi padr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2362320" y="1981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990720" y="3049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 má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2438280" y="251460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WordArt 6"/>
          <p:cNvSpPr txBox="1"/>
          <p:nvPr/>
        </p:nvSpPr>
        <p:spPr>
          <a:xfrm>
            <a:off x="990720" y="1523880"/>
            <a:ext cx="7315200" cy="476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unos fot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438280" y="2590920"/>
            <a:ext cx="266724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con unos amigos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2362320" y="259092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orc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90720" y="30492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Times New Roman"/>
              </a:rPr>
              <a:t>¿Qué hicist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81080" y="27432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_________ al fútbol por la tard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905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actiq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5334120" y="541008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gu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7:58:34Z</dcterms:created>
  <dc:creator>Paul Widergren</dc:creator>
  <dc:description/>
  <dc:language>en-US</dc:language>
  <cp:lastModifiedBy> </cp:lastModifiedBy>
  <dcterms:modified xsi:type="dcterms:W3CDTF">2009-09-30T20:01:03Z</dcterms:modified>
  <cp:revision>28</cp:revision>
  <dc:subject/>
  <dc:title>Preterite verbs ending in -car, -gar, and -zar</dc:title>
</cp:coreProperties>
</file>